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ADE57A-1F12-4E69-9401-F5887EA50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446B86-DF82-4BDD-8CAA-5927B31FD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E9FB35-09DE-4777-A60D-A9A50FE17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0597CE-6694-4976-BDC2-8320626B4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E0B35-EB73-4500-B676-B7E35DAD2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EBE02-A95D-4795-A980-6F1DB6268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936C2-FC94-4C80-99BF-DDC32B31B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CEE98-59D9-4D51-B82E-FC0542615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1BA30-37B8-47A8-8664-0CF132973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5DB48-B796-4A34-81CA-86A291EEF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82A00-8025-4BC3-BB96-96C8DFFC1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9BCAD8-DE34-4764-897F-3C8F64016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0363A-BA87-4DA7-8655-FAD3FFE67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23659-424F-4A6A-BBDF-C1E903C43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2F0F3-859D-4FC9-B8E5-53F51CCD8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378A3-EADC-4934-9971-14B6352A5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1AF54-285A-40EE-8F81-31D512B26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33A6F-38FD-4F8A-AF90-A003BB401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6EC6C7-5D01-41A0-B8C0-8DF8DF415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C14199-F986-4EF9-BBDD-A90B15DAA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1CBB21-B01F-49B1-BC53-3EC7FEB16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FC76E3-929B-44F7-AF86-54917850D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E58BD8-41C7-4924-8318-774F3B42A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993819-6020-4960-9D74-A45792B51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3ABEB-9606-4F0E-A4E2-211FC54C5CA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2819520" y="6248520"/>
            <a:ext cx="3657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ric Just – dictyBase – Northwestern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D87EE-800C-4FF2-9657-0E0E2406427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fdef6"/>
                </a:solidFill>
                <a:latin typeface="Arial"/>
              </a:rPr>
              <a:t>Porting CHADO and GMOD Tools to Oracle and Integration with dictyBase</a:t>
            </a:r>
            <a:endParaRPr b="0" lang="en-US" sz="4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ric Ju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ctyB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dictybase.or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enter for Genetic Medic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rthwestern Univers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"/>
          <p:cNvSpPr/>
          <p:nvPr/>
        </p:nvSpPr>
        <p:spPr>
          <a:xfrm>
            <a:off x="1600200" y="3505320"/>
            <a:ext cx="6172200" cy="533160"/>
          </a:xfrm>
          <a:prstGeom prst="rect">
            <a:avLst/>
          </a:prstGeom>
          <a:solidFill>
            <a:srgbClr val="006699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btable’ database abstraction lay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1600200" y="2133720"/>
            <a:ext cx="2590920" cy="1218960"/>
          </a:xfrm>
          <a:prstGeom prst="rect">
            <a:avLst/>
          </a:prstGeom>
          <a:solidFill>
            <a:srgbClr val="006699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arious middleware an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esentation objec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4343400" y="2819520"/>
            <a:ext cx="3429000" cy="533160"/>
          </a:xfrm>
          <a:prstGeom prst="rect">
            <a:avLst/>
          </a:prstGeom>
          <a:solidFill>
            <a:srgbClr val="006699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ctyBase Object Mod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4343400" y="2133720"/>
            <a:ext cx="3429000" cy="533160"/>
          </a:xfrm>
          <a:prstGeom prst="rect">
            <a:avLst/>
          </a:prstGeom>
          <a:solidFill>
            <a:srgbClr val="006699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ctyBase Presentation Lay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Integrating into dictyBase I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3505320" y="4648320"/>
            <a:ext cx="1828800" cy="1295280"/>
          </a:xfrm>
          <a:prstGeom prst="can">
            <a:avLst>
              <a:gd name="adj" fmla="val 25000"/>
            </a:avLst>
          </a:prstGeom>
          <a:solidFill>
            <a:srgbClr val="006699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cty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G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 flipV="1">
            <a:off x="4038480" y="4070160"/>
            <a:ext cx="0" cy="533160"/>
          </a:xfrm>
          <a:prstGeom prst="line">
            <a:avLst/>
          </a:prstGeom>
          <a:ln w="316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4811760" y="4083120"/>
            <a:ext cx="0" cy="533160"/>
          </a:xfrm>
          <a:prstGeom prst="line">
            <a:avLst/>
          </a:prstGeom>
          <a:ln w="316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2967480" y="6400800"/>
            <a:ext cx="335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ric Just - dictyBase – Northwestern Universit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Eric Just - dictyBase - Northwestern Univers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7411F1-1E40-49A5-BBF1-4B6EB22B69D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"/>
          <p:cNvSpPr/>
          <p:nvPr/>
        </p:nvSpPr>
        <p:spPr>
          <a:xfrm>
            <a:off x="1600200" y="3505320"/>
            <a:ext cx="3048120" cy="533160"/>
          </a:xfrm>
          <a:prstGeom prst="rect">
            <a:avLst/>
          </a:prstGeom>
          <a:solidFill>
            <a:srgbClr val="006699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btable’ lay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3124080" y="2819520"/>
            <a:ext cx="4648320" cy="533160"/>
          </a:xfrm>
          <a:prstGeom prst="rect">
            <a:avLst/>
          </a:prstGeom>
          <a:solidFill>
            <a:srgbClr val="006699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ctyBase Object Mod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3124080" y="2133720"/>
            <a:ext cx="4648320" cy="533160"/>
          </a:xfrm>
          <a:prstGeom prst="rect">
            <a:avLst/>
          </a:prstGeom>
          <a:solidFill>
            <a:srgbClr val="006699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ctyBase Presentation Lay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4800600" y="3505320"/>
            <a:ext cx="2971800" cy="533160"/>
          </a:xfrm>
          <a:prstGeom prst="rect">
            <a:avLst/>
          </a:prstGeom>
          <a:solidFill>
            <a:srgbClr val="006699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ass::DBI lay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Integrating into dictyBase II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2286000" y="4724280"/>
            <a:ext cx="1828800" cy="1295640"/>
          </a:xfrm>
          <a:prstGeom prst="can">
            <a:avLst>
              <a:gd name="adj" fmla="val 25000"/>
            </a:avLst>
          </a:prstGeom>
          <a:solidFill>
            <a:srgbClr val="006699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cty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G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 flipV="1">
            <a:off x="2819520" y="4146480"/>
            <a:ext cx="0" cy="533520"/>
          </a:xfrm>
          <a:prstGeom prst="line">
            <a:avLst/>
          </a:prstGeom>
          <a:ln w="316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3592440" y="4159080"/>
            <a:ext cx="0" cy="533520"/>
          </a:xfrm>
          <a:prstGeom prst="line">
            <a:avLst/>
          </a:prstGeom>
          <a:ln w="316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5181480" y="4724280"/>
            <a:ext cx="1828800" cy="1295640"/>
          </a:xfrm>
          <a:prstGeom prst="can">
            <a:avLst>
              <a:gd name="adj" fmla="val 25000"/>
            </a:avLst>
          </a:prstGeom>
          <a:solidFill>
            <a:srgbClr val="006699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A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 flipV="1">
            <a:off x="5715000" y="4146480"/>
            <a:ext cx="0" cy="533520"/>
          </a:xfrm>
          <a:prstGeom prst="line">
            <a:avLst/>
          </a:prstGeom>
          <a:ln w="316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6488280" y="4159080"/>
            <a:ext cx="0" cy="533520"/>
          </a:xfrm>
          <a:prstGeom prst="line">
            <a:avLst/>
          </a:prstGeom>
          <a:ln w="316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1600200" y="2144880"/>
            <a:ext cx="1371600" cy="1218960"/>
          </a:xfrm>
          <a:prstGeom prst="rect">
            <a:avLst/>
          </a:prstGeom>
          <a:solidFill>
            <a:srgbClr val="006699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Various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iddlewa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nd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resentation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bjec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2967480" y="6400800"/>
            <a:ext cx="335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ric Just - dictyBase – Northwestern Universit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Eric Just - dictyBase - Northwestern Univers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B34B27-12DD-4D25-82F1-C155D7CBA21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dictyBase Object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trieve, insert, update, delet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face ignorant of schem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 presentation in data clas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sy to use interfa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uned with lazy evaluation most accesso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75 – 80% unit test cover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2967480" y="6400800"/>
            <a:ext cx="335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ric Just - dictyBase – Northwestern Universit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Eric Just - dictyBase - Northwestern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3B2A2C-F2F8-43F7-8009-C2B71CFD0B3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Use BioPerl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 Bio::Seq to represent sequen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 Bio::SeqFeatures to represent transcript and alignment lo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rness the power of BioPerl for sequence tasks, file gene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E: BioPerl only used for sequence and lo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2967480" y="6400800"/>
            <a:ext cx="335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ric Just - dictyBase – Northwestern Universit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Eric Just - dictyBase - Northwestern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39DAB8-40B9-44CD-AC68-BAA206CC735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ass Diagram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3905280" y="1752480"/>
            <a:ext cx="1219320" cy="533520"/>
          </a:xfrm>
          <a:prstGeom prst="rect">
            <a:avLst/>
          </a:prstGeom>
          <a:solidFill>
            <a:srgbClr val="006699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476280" y="3276720"/>
            <a:ext cx="1219320" cy="533160"/>
          </a:xfrm>
          <a:prstGeom prst="rect">
            <a:avLst/>
          </a:prstGeom>
          <a:solidFill>
            <a:srgbClr val="006699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247680" y="4572000"/>
            <a:ext cx="1905120" cy="533520"/>
          </a:xfrm>
          <a:prstGeom prst="rect">
            <a:avLst/>
          </a:prstGeom>
          <a:solidFill>
            <a:srgbClr val="006699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1162080" y="3885840"/>
            <a:ext cx="0" cy="685800"/>
          </a:xfrm>
          <a:prstGeom prst="line">
            <a:avLst/>
          </a:prstGeom>
          <a:ln w="31680">
            <a:solidFill>
              <a:srgbClr val="ffffff"/>
            </a:solidFill>
            <a:miter/>
            <a:tailEnd len="lg" type="diamond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2990880" y="3276720"/>
            <a:ext cx="1219320" cy="533160"/>
          </a:xfrm>
          <a:prstGeom prst="rect">
            <a:avLst/>
          </a:prstGeom>
          <a:solidFill>
            <a:srgbClr val="006699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2305080" y="4572000"/>
            <a:ext cx="2604960" cy="533520"/>
          </a:xfrm>
          <a:prstGeom prst="rect">
            <a:avLst/>
          </a:prstGeom>
          <a:solidFill>
            <a:srgbClr val="006699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3600360" y="3886200"/>
            <a:ext cx="0" cy="657360"/>
          </a:xfrm>
          <a:prstGeom prst="line">
            <a:avLst/>
          </a:prstGeom>
          <a:ln w="31680">
            <a:solidFill>
              <a:srgbClr val="ffffff"/>
            </a:solidFill>
            <a:miter/>
            <a:tailEnd len="lg" type="diamond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971960" y="3276720"/>
            <a:ext cx="2057400" cy="914400"/>
          </a:xfrm>
          <a:prstGeom prst="rect">
            <a:avLst/>
          </a:prstGeom>
          <a:solidFill>
            <a:srgbClr val="006699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5048280" y="4572000"/>
            <a:ext cx="1981080" cy="533520"/>
          </a:xfrm>
          <a:prstGeom prst="rect">
            <a:avLst/>
          </a:prstGeom>
          <a:solidFill>
            <a:srgbClr val="006699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 flipV="1">
            <a:off x="6039000" y="4266720"/>
            <a:ext cx="0" cy="304920"/>
          </a:xfrm>
          <a:prstGeom prst="line">
            <a:avLst/>
          </a:prstGeom>
          <a:ln w="31680">
            <a:solidFill>
              <a:srgbClr val="ffffff"/>
            </a:solidFill>
            <a:miter/>
            <a:tailEnd len="lg" type="diamond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7182000" y="3276720"/>
            <a:ext cx="1752480" cy="533160"/>
          </a:xfrm>
          <a:prstGeom prst="rect">
            <a:avLst/>
          </a:prstGeom>
          <a:solidFill>
            <a:srgbClr val="006699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7486560" y="4572000"/>
            <a:ext cx="1219320" cy="533520"/>
          </a:xfrm>
          <a:prstGeom prst="rect">
            <a:avLst/>
          </a:prstGeom>
          <a:solidFill>
            <a:srgbClr val="006699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 flipV="1">
            <a:off x="8096400" y="3885840"/>
            <a:ext cx="0" cy="685800"/>
          </a:xfrm>
          <a:prstGeom prst="line">
            <a:avLst/>
          </a:prstGeom>
          <a:ln w="31680">
            <a:solidFill>
              <a:srgbClr val="ffffff"/>
            </a:solidFill>
            <a:miter/>
            <a:tailEnd len="lg" type="diamond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4059720" y="1828800"/>
            <a:ext cx="96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eat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631800" y="3352680"/>
            <a:ext cx="93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lign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3145320" y="3352680"/>
            <a:ext cx="8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R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5508000" y="335268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ti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7261200" y="3352680"/>
            <a:ext cx="15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romoso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4967280" y="3657600"/>
            <a:ext cx="2075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etOverlappingFeatures(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etOverlappingAlignments(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4400640" y="229536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6699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1162080" y="2895480"/>
            <a:ext cx="6934320" cy="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4514760" y="2438280"/>
            <a:ext cx="7920" cy="44604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1162080" y="2895480"/>
            <a:ext cx="0" cy="38124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3600360" y="2895480"/>
            <a:ext cx="0" cy="38124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6039000" y="2895480"/>
            <a:ext cx="0" cy="38124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8096400" y="2895480"/>
            <a:ext cx="0" cy="38124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2376720" y="4724280"/>
            <a:ext cx="251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io::SeqFeature::Gene::Transcrip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5044680" y="4724280"/>
            <a:ext cx="190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io::SeqFeature::Generi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244080" y="4724280"/>
            <a:ext cx="190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io::SeqFeature::Generi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7714800" y="4724280"/>
            <a:ext cx="759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io::Seq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624" name=""/>
          <p:cNvCxnSpPr>
            <a:stCxn id="596" idx="2"/>
            <a:endCxn id="605" idx="2"/>
          </p:cNvCxnSpPr>
          <p:nvPr/>
        </p:nvCxnSpPr>
        <p:spPr>
          <a:xfrm flipH="1" rot="16200000">
            <a:off x="4647600" y="1673640"/>
            <a:ext cx="2160" cy="6896880"/>
          </a:xfrm>
          <a:prstGeom prst="bentConnector3">
            <a:avLst>
              <a:gd name="adj1" fmla="val 61400000"/>
            </a:avLst>
          </a:prstGeom>
          <a:ln w="31680">
            <a:solidFill>
              <a:srgbClr val="ffffff"/>
            </a:solidFill>
            <a:miter/>
          </a:ln>
        </p:spPr>
      </p:cxnSp>
      <p:cxnSp>
        <p:nvCxnSpPr>
          <p:cNvPr id="625" name=""/>
          <p:cNvCxnSpPr>
            <a:stCxn id="599" idx="2"/>
            <a:endCxn id="605" idx="2"/>
          </p:cNvCxnSpPr>
          <p:nvPr/>
        </p:nvCxnSpPr>
        <p:spPr>
          <a:xfrm flipH="1" rot="16200000">
            <a:off x="5850720" y="2877840"/>
            <a:ext cx="2160" cy="4488840"/>
          </a:xfrm>
          <a:prstGeom prst="bentConnector3">
            <a:avLst>
              <a:gd name="adj1" fmla="val 42900000"/>
            </a:avLst>
          </a:prstGeom>
          <a:ln w="31680">
            <a:solidFill>
              <a:srgbClr val="ffffff"/>
            </a:solidFill>
            <a:miter/>
          </a:ln>
        </p:spPr>
      </p:cxnSp>
      <p:cxnSp>
        <p:nvCxnSpPr>
          <p:cNvPr id="626" name=""/>
          <p:cNvCxnSpPr/>
          <p:nvPr/>
        </p:nvCxnSpPr>
        <p:spPr>
          <a:xfrm flipH="1" rot="16200000">
            <a:off x="7065720" y="4077360"/>
            <a:ext cx="2160" cy="2057760"/>
          </a:xfrm>
          <a:prstGeom prst="bentConnector3">
            <a:avLst>
              <a:gd name="adj1" fmla="val 28400000"/>
            </a:avLst>
          </a:prstGeom>
          <a:ln w="31680">
            <a:solidFill>
              <a:srgbClr val="ffffff"/>
            </a:solidFill>
            <a:miter/>
          </a:ln>
        </p:spPr>
      </p:cxnSp>
      <p:sp>
        <p:nvSpPr>
          <p:cNvPr id="627" name=""/>
          <p:cNvSpPr/>
          <p:nvPr/>
        </p:nvSpPr>
        <p:spPr>
          <a:xfrm>
            <a:off x="2967480" y="6400800"/>
            <a:ext cx="335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ric Just - dictyBase – Northwestern Universit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Eric Just - dictyBase - Northwestern Univers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A2FFAF-B957-488E-8BA3-D7DA017CB67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Object use case: Add an Exon, dbxref, and Description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152280" y="1600200"/>
            <a:ext cx="8839440" cy="4572000"/>
          </a:xfrm>
          <a:prstGeom prst="rect">
            <a:avLst/>
          </a:prstGeom>
          <a:solidFill>
            <a:srgbClr val="000000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Lucida Console"/>
              </a:rPr>
              <a:t>#!per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Lucida Console"/>
              </a:rPr>
              <a:t>use dicty::Fe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Lucida Console"/>
              </a:rPr>
              <a:t>my $transcript = new dicty::Feature( -feature_no =&gt; 218420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Lucida Console"/>
              </a:rPr>
              <a:t>$transcript-&gt;description( ‘Gene model derived from AU12345'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Lucida Console"/>
              </a:rPr>
              <a:t>$transcript-&gt;add_external_id( -source =&gt; ‘GenBank Accession Number',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Lucida Console"/>
              </a:rPr>
              <a:t>                              </a:t>
            </a:r>
            <a:r>
              <a:rPr b="1" lang="en-US" sz="1400" spc="-1" strike="noStrike">
                <a:solidFill>
                  <a:srgbClr val="66ff33"/>
                </a:solidFill>
                <a:latin typeface="Lucida Console"/>
              </a:rPr>
              <a:t>-id     =&gt; 'AU12345'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Lucida Console"/>
              </a:rPr>
              <a:t>$bioperl = $transcript-&gt;bioperl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Lucida Console"/>
              </a:rPr>
              <a:t>[$bioperl-&gt;exons()]-&gt;[2]-&gt;start( 281050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Lucida Console"/>
              </a:rPr>
              <a:t>my $exon = Bio::SeqFeature::Gene::Exon-&gt;new(    -start  =&gt; 280921,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Lucida Console"/>
              </a:rPr>
              <a:t>                                                 </a:t>
            </a:r>
            <a:r>
              <a:rPr b="1" lang="en-US" sz="1400" spc="-1" strike="noStrike">
                <a:solidFill>
                  <a:srgbClr val="66ff33"/>
                </a:solidFill>
                <a:latin typeface="Lucida Console"/>
              </a:rPr>
              <a:t>-end    =&gt; 280959,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Lucida Console"/>
              </a:rPr>
              <a:t>                                                 </a:t>
            </a:r>
            <a:r>
              <a:rPr b="1" lang="en-US" sz="1400" spc="-1" strike="noStrike">
                <a:solidFill>
                  <a:srgbClr val="66ff33"/>
                </a:solidFill>
                <a:latin typeface="Lucida Console"/>
              </a:rPr>
              <a:t>-strand =&gt; -1  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Lucida Console"/>
              </a:rPr>
              <a:t>$exon-&gt;is_coding(1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Lucida Console"/>
              </a:rPr>
              <a:t>$bioperl-&gt;add_exon($exon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Lucida Console"/>
              </a:rPr>
              <a:t>$transcript-&gt;upd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2967480" y="6400800"/>
            <a:ext cx="335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ric Just - dictyBase – Northwestern Universit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Eric Just - dictyBase - Northwestern Univers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CFF059-DC98-4932-9388-CB4C370DA42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"/>
          <p:cNvSpPr/>
          <p:nvPr/>
        </p:nvSpPr>
        <p:spPr>
          <a:xfrm>
            <a:off x="5784840" y="1941480"/>
            <a:ext cx="914400" cy="457200"/>
          </a:xfrm>
          <a:prstGeom prst="rect">
            <a:avLst/>
          </a:prstGeom>
          <a:solidFill>
            <a:srgbClr val="00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GenBan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il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2203560" y="1865160"/>
            <a:ext cx="914400" cy="457200"/>
          </a:xfrm>
          <a:prstGeom prst="rect">
            <a:avLst/>
          </a:prstGeom>
          <a:solidFill>
            <a:srgbClr val="00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GenBan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il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Using Apollo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34" name="laptop"/>
          <p:cNvSpPr/>
          <p:nvPr/>
        </p:nvSpPr>
        <p:spPr>
          <a:xfrm>
            <a:off x="7308720" y="2170080"/>
            <a:ext cx="1352520" cy="1143000"/>
          </a:xfrm>
          <a:prstGeom prst="pi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 flipV="1">
            <a:off x="1461960" y="2169720"/>
            <a:ext cx="513000" cy="206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 flipH="1" flipV="1">
            <a:off x="1517760" y="3008160"/>
            <a:ext cx="5790960" cy="76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1902240" y="4227480"/>
            <a:ext cx="57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quest segment through SOAP message over HT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 flipH="1">
            <a:off x="1517400" y="2279520"/>
            <a:ext cx="507960" cy="195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6851520" y="2246400"/>
            <a:ext cx="60984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 flipH="1" flipV="1">
            <a:off x="6775200" y="2322000"/>
            <a:ext cx="60948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1902240" y="4608360"/>
            <a:ext cx="400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bject layer generates GenBank Fi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1904400" y="5370480"/>
            <a:ext cx="639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dify, in Apollo send changed gene models back via SOA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1911960" y="5791320"/>
            <a:ext cx="605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aptor changes gene models and updates the databa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450720" y="4075200"/>
            <a:ext cx="762120" cy="1218960"/>
          </a:xfrm>
          <a:prstGeom prst="can">
            <a:avLst>
              <a:gd name="adj" fmla="val 25000"/>
            </a:avLst>
          </a:prstGeom>
          <a:solidFill>
            <a:srgbClr val="00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a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222120" y="2170080"/>
            <a:ext cx="1143000" cy="988920"/>
          </a:xfrm>
          <a:prstGeom prst="hexagon">
            <a:avLst>
              <a:gd name="adj" fmla="val 28895"/>
              <a:gd name="vf" fmla="val 115470"/>
            </a:avLst>
          </a:prstGeom>
          <a:solidFill>
            <a:srgbClr val="00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ay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907920" y="323676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 flipV="1">
            <a:off x="755640" y="32364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Cloud"/>
          <p:cNvSpPr/>
          <p:nvPr/>
        </p:nvSpPr>
        <p:spPr>
          <a:xfrm>
            <a:off x="3498840" y="1560600"/>
            <a:ext cx="1676520" cy="244800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1913040" y="5000760"/>
            <a:ext cx="428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nd GenBank File via SOAP messa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0" name="" descr=""/>
          <p:cNvPicPr/>
          <p:nvPr/>
        </p:nvPicPr>
        <p:blipFill>
          <a:blip r:embed="rId1"/>
          <a:stretch/>
        </p:blipFill>
        <p:spPr>
          <a:xfrm>
            <a:off x="7613640" y="2324160"/>
            <a:ext cx="789120" cy="436680"/>
          </a:xfrm>
          <a:prstGeom prst="rect">
            <a:avLst/>
          </a:prstGeom>
          <a:ln w="0">
            <a:noFill/>
          </a:ln>
        </p:spPr>
      </p:pic>
      <p:pic>
        <p:nvPicPr>
          <p:cNvPr id="651" name="" descr=""/>
          <p:cNvPicPr/>
          <p:nvPr/>
        </p:nvPicPr>
        <p:blipFill>
          <a:blip r:embed="rId2"/>
          <a:stretch/>
        </p:blipFill>
        <p:spPr>
          <a:xfrm rot="1219800">
            <a:off x="3809520" y="1752480"/>
            <a:ext cx="1295640" cy="668520"/>
          </a:xfrm>
          <a:prstGeom prst="rect">
            <a:avLst/>
          </a:prstGeom>
          <a:ln w="0">
            <a:noFill/>
          </a:ln>
        </p:spPr>
      </p:pic>
      <p:sp>
        <p:nvSpPr>
          <p:cNvPr id="652" name=""/>
          <p:cNvSpPr/>
          <p:nvPr/>
        </p:nvSpPr>
        <p:spPr>
          <a:xfrm>
            <a:off x="2203560" y="1865160"/>
            <a:ext cx="914400" cy="4572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GenBan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il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5784840" y="1941480"/>
            <a:ext cx="914400" cy="4572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GenBan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il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2967480" y="6400800"/>
            <a:ext cx="335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ric Just - dictyBase – Northwestern Universit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Eric Just - dictyBase - Northwestern Univers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D557A7-4C4F-4EC8-B4AF-43DFB291B3A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New Curation Tool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ne and Feature curation had to be rewritt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ne centric’ cu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ded more evidence qualifi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sentation classes that manipulate Object Lay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2967480" y="6400800"/>
            <a:ext cx="335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ric Just - dictyBase – Northwestern Universit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Eric Just - dictyBase - Northwestern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EDE3FF-9F13-4C29-B9E3-B4BEE96E637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Where Are We Going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tilize the flexibility – New Feature Types, feature relations, and S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tribute back to GM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adually port different areas into CHAD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vide feedback and testing ground for database independe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2967480" y="6400800"/>
            <a:ext cx="335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ric Just - dictyBase – Northwestern Universit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Eric Just - dictyBase - Northwestern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BC0724-880E-4C1D-974A-D9279569D33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Acknowlegment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28958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ictyBas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SzPct val="20592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I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ex Chisholm, Ph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arren Kibbe, Ph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SzPct val="20592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rogramm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ohel Mercha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SzPct val="20592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urator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etra Fe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ascale Gaudet, Ph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Karen Pilch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SzPct val="20592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ioinformatics Core at Northwester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5410080" y="1447920"/>
            <a:ext cx="335304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ther Group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undin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IH (NIGMS and NHGRI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G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SzPct val="102837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GMO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HAD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GBrows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poll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ioPer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2967480" y="6400800"/>
            <a:ext cx="335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ric Just - dictyBase – Northwestern Universit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Eric Just - dictyBase - Northwestern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AEE525-9F89-4122-B0F7-D32D2AA5C93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WHY?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ctyBase based on SG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crease flexibility in feature stor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nt to use CHADO for feature data, but ‘dicty’ SGD schema for the re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cty’ SGD (Oracle) needs to link to CHAD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2967480" y="6400800"/>
            <a:ext cx="335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ric Just - dictyBase – Northwestern Universit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Eric Just - dictyBase - Northwestern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E101F4-E79E-4C5E-9463-974A96E7177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Schema porting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QL Fairy did most of this, bu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d to tweak Oracle Produc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bject name limited to 30 characters, systematically truncate nam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ique/primary keys on CLOBs (text) not allowed, changed to varchar2(4000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NONYM’ reserved name in Oracle, changed name to ‘SYNONYM _’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2967480" y="6400800"/>
            <a:ext cx="335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ric Just - dictyBase – Northwestern Universit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Eric Just - dictyBase - Northwestern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C6E9C4-F191-4909-8573-3DDCFEA91C9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ass::DBI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ass::DBI provides nice ‘table level’ abstra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RU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follow references WITHOUT WRITING SQ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cellent tool for portabi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MOD ships with Class::DBI configured for CHAD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d to fix/customize Oracle Dri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2967480" y="6400800"/>
            <a:ext cx="335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ric Just - dictyBase – Northwestern Universit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Eric Just - dictyBase - Northwestern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AC4F4F-FEA9-4CB5-B5A4-A98458DA40B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AutoDBI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ckage which loads Class::DBI classes for each t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eep class name Chado::Synonym but call set_up_table( ‘synonym_’ 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de ‘residues’ a ‘lazy’ column of Chado::Fea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 other Significant porting need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2967480" y="6400800"/>
            <a:ext cx="335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ric Just - dictyBase – Northwestern Universit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Eric Just - dictyBase - Northwestern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BE39B3-BAF0-4F29-BEC1-2B2C7419C28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Data Migration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2514600" y="2743200"/>
            <a:ext cx="1295280" cy="60948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152280 h 609480"/>
              <a:gd name="textAreaBottom" fmla="*/ 457200 h 609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6699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4267080" y="2286000"/>
            <a:ext cx="838440" cy="1295280"/>
          </a:xfrm>
          <a:prstGeom prst="rect">
            <a:avLst/>
          </a:prstGeom>
          <a:solidFill>
            <a:srgbClr val="006699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FF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5486400" y="2666880"/>
            <a:ext cx="1295280" cy="60984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152280 h 609840"/>
              <a:gd name="textAreaBottom" fmla="*/ 457560 h 6098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6699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7086600" y="2362320"/>
            <a:ext cx="990720" cy="1218960"/>
          </a:xfrm>
          <a:prstGeom prst="can">
            <a:avLst>
              <a:gd name="adj" fmla="val 25000"/>
            </a:avLst>
          </a:prstGeom>
          <a:solidFill>
            <a:srgbClr val="006699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A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1219320" y="2438280"/>
            <a:ext cx="990360" cy="1219320"/>
          </a:xfrm>
          <a:prstGeom prst="can">
            <a:avLst>
              <a:gd name="adj" fmla="val 25000"/>
            </a:avLst>
          </a:prstGeom>
          <a:solidFill>
            <a:srgbClr val="006699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1909800" y="4952880"/>
            <a:ext cx="576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port chromosome sequences and locations in GFF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5" name=""/>
          <p:cNvGrpSpPr/>
          <p:nvPr/>
        </p:nvGrpSpPr>
        <p:grpSpPr>
          <a:xfrm>
            <a:off x="1752480" y="3505320"/>
            <a:ext cx="5791320" cy="914400"/>
            <a:chOff x="1752480" y="3505320"/>
            <a:chExt cx="5791320" cy="914400"/>
          </a:xfrm>
        </p:grpSpPr>
        <p:sp>
          <p:nvSpPr>
            <p:cNvPr id="536" name=""/>
            <p:cNvSpPr/>
            <p:nvPr/>
          </p:nvSpPr>
          <p:spPr>
            <a:xfrm>
              <a:off x="2209680" y="3505320"/>
              <a:ext cx="4876920" cy="761760"/>
            </a:xfrm>
            <a:custGeom>
              <a:avLst/>
              <a:gdLst/>
              <a:ahLst/>
              <a:rect l="l" t="t" r="r" b="b"/>
              <a:pathLst>
                <a:path w="3504" h="440">
                  <a:moveTo>
                    <a:pt x="0" y="48"/>
                  </a:moveTo>
                  <a:cubicBezTo>
                    <a:pt x="644" y="244"/>
                    <a:pt x="1288" y="440"/>
                    <a:pt x="1872" y="432"/>
                  </a:cubicBezTo>
                  <a:cubicBezTo>
                    <a:pt x="2456" y="424"/>
                    <a:pt x="2980" y="212"/>
                    <a:pt x="3504" y="0"/>
                  </a:cubicBezTo>
                </a:path>
              </a:pathLst>
            </a:custGeom>
            <a:noFill/>
            <a:ln w="1908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1981080" y="3581280"/>
              <a:ext cx="5334120" cy="762120"/>
            </a:xfrm>
            <a:custGeom>
              <a:avLst/>
              <a:gdLst/>
              <a:ahLst/>
              <a:rect l="l" t="t" r="r" b="b"/>
              <a:pathLst>
                <a:path w="3504" h="440">
                  <a:moveTo>
                    <a:pt x="0" y="48"/>
                  </a:moveTo>
                  <a:cubicBezTo>
                    <a:pt x="644" y="244"/>
                    <a:pt x="1288" y="440"/>
                    <a:pt x="1872" y="432"/>
                  </a:cubicBezTo>
                  <a:cubicBezTo>
                    <a:pt x="2456" y="424"/>
                    <a:pt x="2980" y="212"/>
                    <a:pt x="3504" y="0"/>
                  </a:cubicBezTo>
                </a:path>
              </a:pathLst>
            </a:custGeom>
            <a:noFill/>
            <a:ln w="1908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1752480" y="3657600"/>
              <a:ext cx="5791320" cy="762120"/>
            </a:xfrm>
            <a:custGeom>
              <a:avLst/>
              <a:gdLst/>
              <a:ahLst/>
              <a:rect l="l" t="t" r="r" b="b"/>
              <a:pathLst>
                <a:path w="3504" h="440">
                  <a:moveTo>
                    <a:pt x="0" y="48"/>
                  </a:moveTo>
                  <a:cubicBezTo>
                    <a:pt x="644" y="244"/>
                    <a:pt x="1288" y="440"/>
                    <a:pt x="1872" y="432"/>
                  </a:cubicBezTo>
                  <a:cubicBezTo>
                    <a:pt x="2456" y="424"/>
                    <a:pt x="2980" y="212"/>
                    <a:pt x="3504" y="0"/>
                  </a:cubicBezTo>
                </a:path>
              </a:pathLst>
            </a:custGeom>
            <a:noFill/>
            <a:ln w="1908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9" name=""/>
          <p:cNvSpPr/>
          <p:nvPr/>
        </p:nvSpPr>
        <p:spPr>
          <a:xfrm>
            <a:off x="1907640" y="5334120"/>
            <a:ext cx="359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oad GFF3 into CHADO schem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1910160" y="5715000"/>
            <a:ext cx="575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pdate references to features with new tables and id’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1321560" y="2819520"/>
            <a:ext cx="75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cty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G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2967480" y="6400800"/>
            <a:ext cx="335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ric Just - dictyBase – Northwestern Universit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Eric Just - dictyBase - Northwestern Univers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50D2F0-AB94-4F41-B398-5748D10B75A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"/>
          <p:cNvSpPr/>
          <p:nvPr/>
        </p:nvSpPr>
        <p:spPr>
          <a:xfrm>
            <a:off x="822240" y="1407960"/>
            <a:ext cx="786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ows’ method does not exist in Oracle DBI Dri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GBrowse porting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457200" y="1905120"/>
            <a:ext cx="8153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990720" y="2666880"/>
            <a:ext cx="7391160" cy="733320"/>
          </a:xfrm>
          <a:prstGeom prst="rect">
            <a:avLst/>
          </a:prstGeom>
          <a:solidFill>
            <a:srgbClr val="000000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Lucida Console"/>
              </a:rPr>
              <a:t>my $rows_returned = @{$sth-&gt;fetchall_arrayref()}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Lucida Console"/>
              </a:rPr>
              <a:t>$sth-&gt;execute or Bio::Root::Root-&gt;throw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Lucida Console"/>
              </a:rPr>
              <a:t>if ( $rows_returned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66ff33"/>
                </a:solidFill>
                <a:latin typeface="Lucida Console"/>
              </a:rPr>
              <a:t>== 0) {…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990720" y="1905120"/>
            <a:ext cx="7315200" cy="307080"/>
          </a:xfrm>
          <a:prstGeom prst="rect">
            <a:avLst/>
          </a:prstGeom>
          <a:solidFill>
            <a:srgbClr val="000000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Lucida Console"/>
              </a:rPr>
              <a:t>if ($sth-&gt;rows() == 0) {…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762120" y="3886200"/>
            <a:ext cx="7864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racle fetchrow_hashref() is case sensitiv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914400" y="4343400"/>
            <a:ext cx="7315200" cy="368280"/>
          </a:xfrm>
          <a:prstGeom prst="rect">
            <a:avLst/>
          </a:prstGeom>
          <a:solidFill>
            <a:srgbClr val="000000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66ff33"/>
                </a:solidFill>
                <a:latin typeface="Lucida Console"/>
              </a:rPr>
              <a:t>$sth-&gt;fetchrow_hashref()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914400" y="5181480"/>
            <a:ext cx="7391520" cy="368280"/>
          </a:xfrm>
          <a:prstGeom prst="rect">
            <a:avLst/>
          </a:prstGeom>
          <a:solidFill>
            <a:srgbClr val="000000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66ff33"/>
                </a:solidFill>
                <a:latin typeface="Lucida Console"/>
              </a:rPr>
              <a:t>$sth-&gt;fetchrow_hashref("NAME_lc"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4191120" y="2362320"/>
            <a:ext cx="761760" cy="2286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4191120" y="4834080"/>
            <a:ext cx="761760" cy="2286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2967480" y="6400800"/>
            <a:ext cx="335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ric Just - dictyBase – Northwestern Universit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Eric Just - dictyBase - Northwestern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06CD81-E0D8-4935-A2FD-D7225776951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GBrowse porting - Querie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915840"/>
          </a:xfrm>
          <a:prstGeom prst="rect">
            <a:avLst/>
          </a:prstGeom>
          <a:solidFill>
            <a:srgbClr val="000000"/>
          </a:solidFill>
          <a:ln w="38160">
            <a:solidFill>
              <a:srgbClr val="969696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ff33"/>
                </a:solidFill>
                <a:latin typeface="Lucida Console"/>
              </a:rPr>
              <a:t>    </a:t>
            </a:r>
            <a:r>
              <a:rPr b="1" lang="en-US" sz="1200" spc="-1" strike="noStrike">
                <a:solidFill>
                  <a:srgbClr val="66ff33"/>
                </a:solidFill>
                <a:latin typeface="Lucida Console"/>
              </a:rPr>
              <a:t>select f.feature_id, f.name, fl.fmin,fl.fmax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ff33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66ff33"/>
                </a:solidFill>
                <a:latin typeface="Lucida Console"/>
              </a:rPr>
              <a:t>from feature 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ff33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66ff33"/>
                </a:solidFill>
                <a:latin typeface="Lucida Console"/>
              </a:rPr>
              <a:t>join featureloc fl      using (feature_id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ff33"/>
                </a:solidFill>
                <a:latin typeface="Lucida Console"/>
              </a:rPr>
              <a:t>     </a:t>
            </a:r>
            <a:r>
              <a:rPr b="1" lang="en-US" sz="1200" spc="-1" strike="noStrike">
                <a:solidFill>
                  <a:srgbClr val="66ff33"/>
                </a:solidFill>
                <a:latin typeface="Lucida Console"/>
              </a:rPr>
              <a:t>where f.feature_id = 221659 and fl.rank=0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200400"/>
            <a:ext cx="8229600" cy="914400"/>
          </a:xfrm>
          <a:prstGeom prst="rect">
            <a:avLst/>
          </a:prstGeom>
          <a:solidFill>
            <a:srgbClr val="000000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ff33"/>
                </a:solidFill>
                <a:latin typeface="Lucida Console"/>
              </a:rPr>
              <a:t>    </a:t>
            </a:r>
            <a:r>
              <a:rPr b="1" lang="en-US" sz="1200" spc="-1" strike="noStrike">
                <a:solidFill>
                  <a:srgbClr val="66ff33"/>
                </a:solidFill>
                <a:latin typeface="Lucida Console"/>
              </a:rPr>
              <a:t>select f.feature_id, f.name, fl.fmin,fl.fmax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ff33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66ff33"/>
                </a:solidFill>
                <a:latin typeface="Lucida Console"/>
              </a:rPr>
              <a:t>from feature 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ff33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66ff33"/>
                </a:solidFill>
                <a:latin typeface="Lucida Console"/>
              </a:rPr>
              <a:t>join featureloc fl      on f.feature_id = fl.feature_i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ff33"/>
                </a:solidFill>
                <a:latin typeface="Lucida Console"/>
              </a:rPr>
              <a:t>     </a:t>
            </a:r>
            <a:r>
              <a:rPr b="1" lang="en-US" sz="1200" spc="-1" strike="noStrike">
                <a:solidFill>
                  <a:srgbClr val="66ff33"/>
                </a:solidFill>
                <a:latin typeface="Lucida Console"/>
              </a:rPr>
              <a:t>where f.feature_id = 221659 and fl.rank=0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389520" y="1219320"/>
            <a:ext cx="831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racle does not like anything in a ‘using’ clause to also be in the ‘where’ cla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4114800" y="2819520"/>
            <a:ext cx="762120" cy="2286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457200" y="4572000"/>
            <a:ext cx="8099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‘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ubstring’ becomes ‘substr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y SQL containing synonym table must be modifi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y procedural SQL must be reproduced, in some cases this can be avoid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2967480" y="6400800"/>
            <a:ext cx="335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ric Just - dictyBase – Northwestern Universit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Eric Just - dictyBase - Northwestern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39DAC0-83E0-4BCD-B118-6A9409C1649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Tuning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ded is_deleted flag to feature t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ded some audit colum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ded audit table and trigg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reated Indexes Heuristical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ded hints to some difficult quer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2967480" y="6400800"/>
            <a:ext cx="335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ric Just - dictyBase – Northwestern Universit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Eric Just - dictyBase - Northwestern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8E813A-4053-476B-AB6E-4AB113CF1DD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04T13:39:44Z</dcterms:created>
  <dc:creator>cgm</dc:creator>
  <dc:description/>
  <dc:language>en-US</dc:language>
  <cp:lastModifiedBy>eric</cp:lastModifiedBy>
  <dcterms:modified xsi:type="dcterms:W3CDTF">2005-05-17T18:57:26Z</dcterms:modified>
  <cp:revision>63</cp:revision>
  <dc:subject/>
  <dc:title>Slide 1</dc:title>
</cp:coreProperties>
</file>